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CA29-73C8-47E8-8C19-09496F41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7D1-FAF8-41C7-B147-A79B5434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356-341F-4F38-9129-226EC682E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728-2F05-48AC-ADCF-E1E991A3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C1E0-EF23-4DE1-A1DC-B41764C2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5C6C-0143-4396-B37D-C3854407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B2F8-4D5A-4C52-94E2-96817EED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E43-30C4-4DFB-BC38-AFB81FBD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4CA-A291-4B58-89B0-040EE900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A71-5026-42C3-B2E4-9A544CC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103-3FE7-4AE8-8A09-B948C353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865-56FB-487D-BD41-1161A186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4EBD-289D-4132-9C1D-6448D4B8D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564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2044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785520" cy="702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9080" y="285840"/>
            <a:ext cx="8991720" cy="63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908352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684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0964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10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255600" y="291960"/>
            <a:ext cx="935028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7568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753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23:54:24Z</dcterms:created>
  <dc:creator>Megan</dc:creator>
  <dc:description/>
  <dc:language>en-US</dc:language>
  <cp:lastModifiedBy>Megan</cp:lastModifiedBy>
  <dcterms:modified xsi:type="dcterms:W3CDTF">2008-02-25T02:03:05Z</dcterms:modified>
  <cp:revision>14</cp:revision>
  <dc:subject/>
  <dc:title>Slide 1</dc:title>
</cp:coreProperties>
</file>